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71C-B019-45B5-AACD-A6E796C0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9D5-6547-4122-86A0-17A702F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CA9-C1F8-4F61-AA08-C204C650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6BB-8662-4415-80A8-C5AAC2ED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8CC-26A0-4913-8E99-C8AF5AB2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2BE-4DFA-4088-8A06-D23B574C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E29-FEAC-4759-B67F-93EE90BB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F88-6D9C-4F10-B76F-06A7165E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4DD-2006-48B8-8FB9-6F9EE51B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5FC-5DE3-4028-95DC-8F8B266B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EAD-BBC2-4A79-AD53-84B7ED96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AFA-E732-434E-8BE1-36E16DC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FD48D19C-4025-449D-8890-68A1D6D84C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53.xml"/><Relationship Id="rId3" Type="http://schemas.openxmlformats.org/officeDocument/2006/relationships/slide" Target="slide48.xml"/><Relationship Id="rId4" Type="http://schemas.openxmlformats.org/officeDocument/2006/relationships/slide" Target="slide43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39.xml"/><Relationship Id="rId8" Type="http://schemas.openxmlformats.org/officeDocument/2006/relationships/slide" Target="slide64.xml"/><Relationship Id="rId9" Type="http://schemas.openxmlformats.org/officeDocument/2006/relationships/slide" Target="slide59.xml"/><Relationship Id="rId10" Type="http://schemas.openxmlformats.org/officeDocument/2006/relationships/slide" Target="slide57.xml"/><Relationship Id="rId11" Type="http://schemas.openxmlformats.org/officeDocument/2006/relationships/slide" Target="slide49.xml"/><Relationship Id="rId12" Type="http://schemas.openxmlformats.org/officeDocument/2006/relationships/slide" Target="slide44.xml"/><Relationship Id="rId13" Type="http://schemas.openxmlformats.org/officeDocument/2006/relationships/slide" Target="slide40.xml"/><Relationship Id="rId14" Type="http://schemas.openxmlformats.org/officeDocument/2006/relationships/slide" Target="slide45.xml"/><Relationship Id="rId15" Type="http://schemas.openxmlformats.org/officeDocument/2006/relationships/slide" Target="slide50.xml"/><Relationship Id="rId16" Type="http://schemas.openxmlformats.org/officeDocument/2006/relationships/slide" Target="slide60.xml"/><Relationship Id="rId17" Type="http://schemas.openxmlformats.org/officeDocument/2006/relationships/slide" Target="slide65.xml"/><Relationship Id="rId18" Type="http://schemas.openxmlformats.org/officeDocument/2006/relationships/slide" Target="slide51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61.xml"/><Relationship Id="rId22" Type="http://schemas.openxmlformats.org/officeDocument/2006/relationships/slide" Target="slide66.xml"/><Relationship Id="rId23" Type="http://schemas.openxmlformats.org/officeDocument/2006/relationships/slide" Target="slide42.xml"/><Relationship Id="rId24" Type="http://schemas.openxmlformats.org/officeDocument/2006/relationships/slide" Target="slide62.xml"/><Relationship Id="rId25" Type="http://schemas.openxmlformats.org/officeDocument/2006/relationships/slide" Target="slide47.xml"/><Relationship Id="rId26" Type="http://schemas.openxmlformats.org/officeDocument/2006/relationships/slide" Target="slide52.xml"/><Relationship Id="rId27" Type="http://schemas.openxmlformats.org/officeDocument/2006/relationships/slide" Target="slide54.xml"/><Relationship Id="rId28" Type="http://schemas.openxmlformats.org/officeDocument/2006/relationships/slide" Target="slide67.xml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5.xml"/><Relationship Id="rId3" Type="http://schemas.openxmlformats.org/officeDocument/2006/relationships/slide" Target="slide11.xml"/><Relationship Id="rId4" Type="http://schemas.openxmlformats.org/officeDocument/2006/relationships/slide" Target="slide26.xml"/><Relationship Id="rId5" Type="http://schemas.openxmlformats.org/officeDocument/2006/relationships/slide" Target="slide31.xml"/><Relationship Id="rId6" Type="http://schemas.openxmlformats.org/officeDocument/2006/relationships/slide" Target="slide7.xml"/><Relationship Id="rId7" Type="http://schemas.openxmlformats.org/officeDocument/2006/relationships/slide" Target="slide32.xml"/><Relationship Id="rId8" Type="http://schemas.openxmlformats.org/officeDocument/2006/relationships/slide" Target="slide27.xml"/><Relationship Id="rId9" Type="http://schemas.openxmlformats.org/officeDocument/2006/relationships/slide" Target="slide22.xml"/><Relationship Id="rId10" Type="http://schemas.openxmlformats.org/officeDocument/2006/relationships/slide" Target="slide17.xml"/><Relationship Id="rId11" Type="http://schemas.openxmlformats.org/officeDocument/2006/relationships/slide" Target="slide12.xml"/><Relationship Id="rId12" Type="http://schemas.openxmlformats.org/officeDocument/2006/relationships/slide" Target="slide6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28.xml"/><Relationship Id="rId17" Type="http://schemas.openxmlformats.org/officeDocument/2006/relationships/slide" Target="slide33.xml"/><Relationship Id="rId18" Type="http://schemas.openxmlformats.org/officeDocument/2006/relationships/slide" Target="slide1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24.xml"/><Relationship Id="rId22" Type="http://schemas.openxmlformats.org/officeDocument/2006/relationships/slide" Target="slide29.xml"/><Relationship Id="rId23" Type="http://schemas.openxmlformats.org/officeDocument/2006/relationships/slide" Target="slide34.xml"/><Relationship Id="rId24" Type="http://schemas.openxmlformats.org/officeDocument/2006/relationships/slide" Target="slide10.xml"/><Relationship Id="rId25" Type="http://schemas.openxmlformats.org/officeDocument/2006/relationships/slide" Target="slide30.xml"/><Relationship Id="rId26" Type="http://schemas.openxmlformats.org/officeDocument/2006/relationships/slide" Target="slide16.xml"/><Relationship Id="rId27" Type="http://schemas.openxmlformats.org/officeDocument/2006/relationships/slide" Target="slide35.xml"/><Relationship Id="rId28" Type="http://schemas.openxmlformats.org/officeDocument/2006/relationships/audio" Target="../media/boardfill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ructure connects the right cerebral hemisphere with the left cerebral hemisp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corpus callos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1321416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ivision of the peripheral nervous system controls involuntary body funct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utonomic Nervous S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086600" y="8153280"/>
            <a:ext cx="1752480" cy="152424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4834" h="21600">
                <a:moveTo>
                  <a:pt x="0" y="0"/>
                </a:moveTo>
                <a:lnTo>
                  <a:pt x="24834" y="0"/>
                </a:lnTo>
                <a:lnTo>
                  <a:pt x="24834" y="21600"/>
                </a:lnTo>
                <a:lnTo>
                  <a:pt x="0" y="21600"/>
                </a:lnTo>
                <a:close/>
              </a:path>
              <a:path fill="lightenLess" w="24834" h="21600">
                <a:moveTo>
                  <a:pt x="0" y="0"/>
                </a:moveTo>
                <a:lnTo>
                  <a:pt x="24834" y="0"/>
                </a:lnTo>
                <a:lnTo>
                  <a:pt x="23434" y="1400"/>
                </a:lnTo>
                <a:lnTo>
                  <a:pt x="1400" y="1400"/>
                </a:lnTo>
                <a:close/>
              </a:path>
              <a:path fill="darken" w="24834" h="21600">
                <a:moveTo>
                  <a:pt x="24834" y="0"/>
                </a:moveTo>
                <a:lnTo>
                  <a:pt x="24834" y="21600"/>
                </a:lnTo>
                <a:lnTo>
                  <a:pt x="23434" y="20200"/>
                </a:lnTo>
                <a:lnTo>
                  <a:pt x="23434" y="1400"/>
                </a:lnTo>
                <a:close/>
              </a:path>
              <a:path fill="darkenLess" w="24834" h="21600">
                <a:moveTo>
                  <a:pt x="24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4" y="20200"/>
                </a:lnTo>
                <a:close/>
              </a:path>
              <a:path fill="lighten" w="24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4" h="21600">
                <a:moveTo>
                  <a:pt x="124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4" h="21600">
                <a:moveTo>
                  <a:pt x="13522" y="14281"/>
                </a:moveTo>
                <a:lnTo>
                  <a:pt x="13522" y="12323"/>
                </a:lnTo>
                <a:cubicBezTo>
                  <a:pt x="13522" y="11496"/>
                  <a:pt x="13853" y="10800"/>
                  <a:pt x="14453" y="10800"/>
                </a:cubicBezTo>
                <a:cubicBezTo>
                  <a:pt x="15585" y="10800"/>
                  <a:pt x="16481" y="9434"/>
                  <a:pt x="16481" y="7849"/>
                </a:cubicBezTo>
                <a:cubicBezTo>
                  <a:pt x="16481" y="5534"/>
                  <a:pt x="14628" y="3794"/>
                  <a:pt x="12417" y="3794"/>
                </a:cubicBezTo>
                <a:cubicBezTo>
                  <a:pt x="10206" y="3794"/>
                  <a:pt x="8535" y="5534"/>
                  <a:pt x="8535" y="7849"/>
                </a:cubicBezTo>
                <a:lnTo>
                  <a:pt x="10389" y="7849"/>
                </a:lnTo>
                <a:cubicBezTo>
                  <a:pt x="10389" y="6709"/>
                  <a:pt x="11311" y="5821"/>
                  <a:pt x="12417" y="5821"/>
                </a:cubicBezTo>
                <a:cubicBezTo>
                  <a:pt x="13522" y="5821"/>
                  <a:pt x="14453" y="6709"/>
                  <a:pt x="14453" y="7849"/>
                </a:cubicBezTo>
                <a:cubicBezTo>
                  <a:pt x="14453" y="8589"/>
                  <a:pt x="13983" y="9320"/>
                  <a:pt x="13522" y="9320"/>
                </a:cubicBezTo>
                <a:cubicBezTo>
                  <a:pt x="12417" y="9320"/>
                  <a:pt x="11311" y="10800"/>
                  <a:pt x="11311" y="12323"/>
                </a:cubicBezTo>
                <a:lnTo>
                  <a:pt x="1131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ivision of the autonomic nervous system is responsible for preparing the body for 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ympathetic divi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858000" y="8305920"/>
            <a:ext cx="1981080" cy="152388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1403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9" h="21600">
                <a:moveTo>
                  <a:pt x="15145" y="14281"/>
                </a:moveTo>
                <a:lnTo>
                  <a:pt x="15145" y="12323"/>
                </a:lnTo>
                <a:cubicBezTo>
                  <a:pt x="15145" y="11496"/>
                  <a:pt x="15476" y="10800"/>
                  <a:pt x="16076" y="10800"/>
                </a:cubicBezTo>
                <a:cubicBezTo>
                  <a:pt x="17208" y="10800"/>
                  <a:pt x="18104" y="9434"/>
                  <a:pt x="18104" y="7849"/>
                </a:cubicBezTo>
                <a:cubicBezTo>
                  <a:pt x="18104" y="5534"/>
                  <a:pt x="16250" y="3794"/>
                  <a:pt x="14039" y="3794"/>
                </a:cubicBezTo>
                <a:cubicBezTo>
                  <a:pt x="11829" y="3794"/>
                  <a:pt x="10158" y="5534"/>
                  <a:pt x="10158" y="7849"/>
                </a:cubicBezTo>
                <a:lnTo>
                  <a:pt x="12012" y="7849"/>
                </a:lnTo>
                <a:cubicBezTo>
                  <a:pt x="12012" y="6709"/>
                  <a:pt x="12934" y="5821"/>
                  <a:pt x="14039" y="5821"/>
                </a:cubicBezTo>
                <a:cubicBezTo>
                  <a:pt x="15145" y="5821"/>
                  <a:pt x="16076" y="6709"/>
                  <a:pt x="16076" y="7849"/>
                </a:cubicBezTo>
                <a:cubicBezTo>
                  <a:pt x="16076" y="8589"/>
                  <a:pt x="15606" y="9320"/>
                  <a:pt x="15145" y="9320"/>
                </a:cubicBezTo>
                <a:cubicBezTo>
                  <a:pt x="14039" y="9320"/>
                  <a:pt x="12934" y="10800"/>
                  <a:pt x="12934" y="12323"/>
                </a:cubicBezTo>
                <a:lnTo>
                  <a:pt x="1293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1321452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ivision of the autonomic nervous system involves voluntary muscle action?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omatic nervous s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ere are interneurons locat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pinal c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Which part of the neuron  receives informa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ndr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hree neurons are involved in a spinal reflex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ensory neuron, interneuron, and motor neu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part of the neuron transmits informa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x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6934320" y="7696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junction where axons and dendrites mee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ynap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what part of the neuron can the nucleus be f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ell bod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1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1321452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layer of insulation that covers the axon in a neu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Myelin She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ignal is transmitted in a neuron along its ax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ic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t rest, what is the charge on the inside of the neu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Negativ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ion channels open up as a nerve impulse travels down an ax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od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ignal is transmitted at the synaps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Chemic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process is involved in the release of neutransmitters at the synapse of a neu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xocyto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receptors are sensitive to ligh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Photorecep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the names of the two receptors in the retina of the eye that perceive light and col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ods and con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receptor is involved in both taste and smel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hemorecep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receptors are stimulated by vibrations within the ea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Mechanorecep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structures within the ear is responsible for sensing body posi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emicircular can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lobe of the brain is responsible of intellectual func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ront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lobe of the brain processes information from the auditory nerv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empor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an involuntary response to a stimul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efle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To which lobe of the brain does the optic nerve trave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Occipit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lobe of the brain is responsible for somatosensory process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arietal lob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3400" y="966168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572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820520" y="457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ic  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name given to JJ Thomson’s atomic mode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lum Pudd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ccording to John Dalton, Which atoms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 of the same el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-609480"/>
            <a:ext cx="26668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ntral Nervous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685800"/>
            <a:ext cx="2286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380880"/>
            <a:ext cx="2438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rve Impul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77920" y="60948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96480" y="304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nsory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286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pheral Nervous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first proposed that all matter consisted of ato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scribing the nuclear model of particles in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atomic theorist developed the concept of the atom without experimen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terms of charge, how would you compare a proton and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qual and oppos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relative mass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18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ould occur if two electrons were brought together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would repel one anoth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 change in the number of electrons in an atom give rise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particle, proton or electron, is attracted to the cathode of a CR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From what is atomic mass deriv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weighted average mass of all atoms that naturally occur in a sam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i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65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Cl-35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6934320" y="72388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the atom that has a mass number or 15 and 8 neu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7238880" y="7162920"/>
            <a:ext cx="1524240" cy="152388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5" h="21600">
                <a:moveTo>
                  <a:pt x="108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5" h="21600">
                <a:moveTo>
                  <a:pt x="11908" y="14281"/>
                </a:moveTo>
                <a:lnTo>
                  <a:pt x="11908" y="12323"/>
                </a:lnTo>
                <a:cubicBezTo>
                  <a:pt x="11908" y="11496"/>
                  <a:pt x="12239" y="10800"/>
                  <a:pt x="12839" y="10800"/>
                </a:cubicBezTo>
                <a:cubicBezTo>
                  <a:pt x="13971" y="10800"/>
                  <a:pt x="14867" y="9434"/>
                  <a:pt x="14867" y="7849"/>
                </a:cubicBezTo>
                <a:cubicBezTo>
                  <a:pt x="14867" y="5534"/>
                  <a:pt x="13013" y="3794"/>
                  <a:pt x="10803" y="3794"/>
                </a:cubicBezTo>
                <a:cubicBezTo>
                  <a:pt x="8592" y="3794"/>
                  <a:pt x="6921" y="5534"/>
                  <a:pt x="6921" y="7849"/>
                </a:cubicBezTo>
                <a:lnTo>
                  <a:pt x="8775" y="7849"/>
                </a:lnTo>
                <a:cubicBezTo>
                  <a:pt x="8775" y="6709"/>
                  <a:pt x="9697" y="5821"/>
                  <a:pt x="10803" y="5821"/>
                </a:cubicBezTo>
                <a:cubicBezTo>
                  <a:pt x="11908" y="5821"/>
                  <a:pt x="12839" y="6709"/>
                  <a:pt x="12839" y="7849"/>
                </a:cubicBezTo>
                <a:cubicBezTo>
                  <a:pt x="12839" y="8589"/>
                  <a:pt x="12369" y="9320"/>
                  <a:pt x="11908" y="9320"/>
                </a:cubicBezTo>
                <a:cubicBezTo>
                  <a:pt x="10803" y="9320"/>
                  <a:pt x="9697" y="10800"/>
                  <a:pt x="9697" y="12323"/>
                </a:cubicBezTo>
                <a:lnTo>
                  <a:pt x="96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electrons are there in a calcium 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type of energy determines whether a fission or fusion reaction takes place</a:t>
            </a:r>
            <a:r>
              <a:rPr b="0" i="1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Binding ener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is used to determine the age of carbon based materi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-1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a radioactive isoto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sotope that has an unstable nucleus and undergoes radioactive deca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subatomic particle is beta radiation composed of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sotope is more abundant?  F-19 or F-22 given an atomic mass of 20.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-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decay would occur in an isotope that has 4 neutrons and 2 prot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eta radi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has the least penetrating pow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do the mass of a proton and the mass of a neuron compa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are roughly the sa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the two main components of the central nervous syst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rain and Spinal C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alpha particles composed of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ositively charged helium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0">
              <a:spcBef>
                <a:spcPts val="1800"/>
              </a:spcBef>
              <a:buNone/>
              <a:tabLst>
                <a:tab algn="l" pos="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What type of nuclear reaction occurs in small nuclei to bring about stability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caused maximum deflection of alpha particles in Rutherford’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Changes in the number of these particles result in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equation accounts for the conversion of mass into energy in nuclear reaction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=mc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did Rutherford use in hi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What subatomic particle was discovered by inference to account for the discrepancy between particle mass and atomic ma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Neutr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would not be deflected by a magne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Gam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largest part of the brain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cerebr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6629400" y="7315200"/>
            <a:ext cx="2819520" cy="1981080"/>
          </a:xfrm>
          <a:custGeom>
            <a:avLst/>
            <a:gdLst>
              <a:gd name="textAreaLeft" fmla="*/ 128160 w 2819520"/>
              <a:gd name="textAreaRight" fmla="*/ 2691360 w 281952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40" h="21600">
                <a:moveTo>
                  <a:pt x="0" y="0"/>
                </a:moveTo>
                <a:lnTo>
                  <a:pt x="30740" y="0"/>
                </a:lnTo>
                <a:lnTo>
                  <a:pt x="30740" y="21600"/>
                </a:lnTo>
                <a:lnTo>
                  <a:pt x="0" y="21600"/>
                </a:lnTo>
                <a:close/>
              </a:path>
              <a:path fill="lightenLess" w="30740" h="21600">
                <a:moveTo>
                  <a:pt x="0" y="0"/>
                </a:moveTo>
                <a:lnTo>
                  <a:pt x="30740" y="0"/>
                </a:lnTo>
                <a:lnTo>
                  <a:pt x="29340" y="1400"/>
                </a:lnTo>
                <a:lnTo>
                  <a:pt x="1400" y="1400"/>
                </a:lnTo>
                <a:close/>
              </a:path>
              <a:path fill="darken" w="30740" h="21600">
                <a:moveTo>
                  <a:pt x="30740" y="0"/>
                </a:moveTo>
                <a:lnTo>
                  <a:pt x="30740" y="21600"/>
                </a:lnTo>
                <a:lnTo>
                  <a:pt x="29340" y="20200"/>
                </a:lnTo>
                <a:lnTo>
                  <a:pt x="29340" y="1400"/>
                </a:lnTo>
                <a:close/>
              </a:path>
              <a:path fill="darkenLess" w="30740" h="21600">
                <a:moveTo>
                  <a:pt x="30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0" y="20200"/>
                </a:lnTo>
                <a:close/>
              </a:path>
              <a:path fill="lighten" w="30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0" h="21600">
                <a:moveTo>
                  <a:pt x="153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40" h="21600">
                <a:moveTo>
                  <a:pt x="16475" y="14281"/>
                </a:moveTo>
                <a:lnTo>
                  <a:pt x="16475" y="12323"/>
                </a:lnTo>
                <a:cubicBezTo>
                  <a:pt x="16475" y="11496"/>
                  <a:pt x="16806" y="10800"/>
                  <a:pt x="17407" y="10800"/>
                </a:cubicBezTo>
                <a:cubicBezTo>
                  <a:pt x="18538" y="10800"/>
                  <a:pt x="19435" y="9434"/>
                  <a:pt x="19435" y="7849"/>
                </a:cubicBezTo>
                <a:cubicBezTo>
                  <a:pt x="19435" y="5534"/>
                  <a:pt x="17581" y="3794"/>
                  <a:pt x="15370" y="3794"/>
                </a:cubicBezTo>
                <a:cubicBezTo>
                  <a:pt x="13159" y="3794"/>
                  <a:pt x="11488" y="5534"/>
                  <a:pt x="11488" y="7849"/>
                </a:cubicBezTo>
                <a:lnTo>
                  <a:pt x="13342" y="7849"/>
                </a:lnTo>
                <a:cubicBezTo>
                  <a:pt x="13342" y="6709"/>
                  <a:pt x="14265" y="5821"/>
                  <a:pt x="15370" y="5821"/>
                </a:cubicBezTo>
                <a:cubicBezTo>
                  <a:pt x="16475" y="5821"/>
                  <a:pt x="17407" y="6709"/>
                  <a:pt x="17407" y="7849"/>
                </a:cubicBezTo>
                <a:cubicBezTo>
                  <a:pt x="17407" y="8589"/>
                  <a:pt x="16937" y="9320"/>
                  <a:pt x="16475" y="9320"/>
                </a:cubicBezTo>
                <a:cubicBezTo>
                  <a:pt x="15370" y="9320"/>
                  <a:pt x="14265" y="10800"/>
                  <a:pt x="14265" y="12323"/>
                </a:cubicBezTo>
                <a:lnTo>
                  <a:pt x="1426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ructure in the central nervous system is responsible for balanc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cerebell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the two components of the brainst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pons and the medulla oblonga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udsd</cp:lastModifiedBy>
  <dcterms:modified xsi:type="dcterms:W3CDTF">2008-12-12T14:16:23Z</dcterms:modified>
  <cp:revision>88</cp:revision>
  <dc:subject/>
  <dc:title>Jeopardy</dc:title>
</cp:coreProperties>
</file>